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73C-D035-406D-8206-ADF015DD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40F-3D04-4375-928C-EA43DEC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45E79-7EF9-41B7-8987-8F3C44ED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415A4-3EE6-4614-AA13-24B760E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F26DA-DAB5-49E5-84AC-82303C8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F254E-CD83-4F0A-8337-CD58200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3367-F01F-41E9-A1E7-7BED093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3DC12-597D-4337-99CA-636F64C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3F668-6917-4A8C-A231-097D98E3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B6C7D-084A-4A42-B208-D7AC9754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8D761-E450-4431-88E2-D48E726D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45379-33C6-4BA1-B984-15EA4B09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CEC-3F17-4243-80E6-5C6B2FC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CC385-B6BE-47FB-99C8-73DF36ED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9FEC0-555E-4F71-8608-39B56C85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1EE48-82D3-4624-BCBA-2D3EA5E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AEAD6-AB03-4EDE-8D86-62F8AFF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0D7A0-1831-4224-98CE-824860C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E1CD9-9C31-45B6-9186-D73E66BB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8C746-1423-4B24-9FFC-E1C94B0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F5592-F371-4A9F-A416-B53632E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CBE90-529B-4373-9171-07021FE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4363B-D53A-4389-B618-C1F42231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6C8-4B11-4B27-9175-FD310C4B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1C285-2776-407A-8162-C232155D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60E9A-9F9F-48A7-A91B-8B8767B9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FE27D-ACFC-4FFA-85F3-2BC3D84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75B45-DFAC-4906-BECE-ACAD8EA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3BCF4-8EB2-499F-B428-ABF134C2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F1701-5B98-40AD-BAE9-2F21DC70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70EA6-C436-4F2F-A751-F0E1D1C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B34BB-ADF0-44B3-97FA-6F1D2C0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5CCBA-6C61-4BE9-ABD5-458D75D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3CB68-B9EB-4D58-BB9D-7AA76DD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A95-D811-4F90-BE8D-87097B3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6940F-8F92-41A6-BE17-B8D78BC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F0DA4-FC01-4315-8AF4-4723BB6C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45242-8DA7-4B48-82D8-5D1594A5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D108B-902C-4844-BF92-73E817C7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DBEED-A429-4BFE-931E-8AD37F5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B7E0A-E62D-4A26-8367-4E11F0AE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FF7A6-632F-447C-8DF4-BD921986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F62D5-9189-4690-8A82-BCA2B39C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B43C4-370E-4341-83C3-6260561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8C77-7BFC-4132-841D-AC40555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9D0D-C90B-4F39-8F78-2F223E8A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40A28-325C-460D-AFF1-574E1AA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17F09-DB35-4BDC-9C21-B47D8DA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27E3D-24EC-4FFC-B091-82AFDC26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C21F6-30D2-4E58-9F44-C48A0ACB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AD282-D7B7-41CF-931F-CE8D13EE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6D4BF-EB04-4C7F-8BEB-9C0CC898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B726F-BED9-417C-A762-6587630D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A0BE0-8187-4521-903C-669666FC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78F47-973B-4EA8-8A76-F9627C9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451A5-879D-4C87-A173-86473B4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5B0C-04CC-4329-AF6C-FDB50DA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3EDA7-5D30-4DA5-93FB-E82DBE0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D7D19-0CA1-42EA-A111-46FF1C8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ECDBD-FD4E-40B0-84D4-1ABC173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461CB-DCF2-4F32-AA9A-55A7847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D6D88-942E-405E-BA7A-A5BAF068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96E07-05A8-4A86-AAD2-99C592F9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0A938-315C-437D-8170-7C0310E7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1596E-7178-4851-9942-2C3F546D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F88EB-7EDB-4B5C-AFB4-34F3EFD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D3B1D-32D2-41B8-97DD-68D9358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F9A2-3947-49E9-BEBB-F5661431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EF02E-1051-416E-954F-9510F24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91390-6277-4233-B02F-DE505F3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C6DD8-AE26-4F88-AA04-5F9D2E0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F5405-C0A2-4485-8A91-19BC21F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FEF63-616B-4C9A-B57B-C702589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F16A7-7DCD-4F2E-A8B7-D621105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1B683-C7B1-471B-835C-36575BF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B008A-852A-4E80-9703-64730C46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ED441-B9A8-469E-A02D-4A2E7F1C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E26B7-4F4B-4595-B2AC-74B3B280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0B1-D2BA-4141-AEE1-C7546ACA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72143-717C-4D3A-A151-FA680F5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C8078-DAD1-4775-A2C1-3E955665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4E59C-8ECF-4D2F-B9C5-4685543D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A6622-B1B0-45F8-A7E2-E41AC55E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070A2-495A-468F-BD88-A797106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C398C-0A81-4105-8EA7-03ACAAB7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20224-3E53-4672-9F55-7C87AA5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EFAC8-0D6F-4E8E-A6EE-209ABD6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2B742-D378-4BC2-8581-28D88CA9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20780-61D4-4634-8F8F-C2039DB3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F808-633B-4310-9D76-1263E275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8C247-231B-4FA6-9E46-0EC14A9D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E4525-DB98-4CCE-86DB-42F906D9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A7958-C0B1-46B2-8D38-1091985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67310-7457-4219-8062-CBE807D5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88AC4-F29E-45B0-9EA8-AE19589B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B2ED5-768E-4C64-957F-FABD9CCF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C9A15-EB90-479B-875A-10D5F51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9EAA9-8C1D-47C5-BF05-D516757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C3E70-C62D-4FC8-B69A-7080227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FCBCE-E857-4578-B38E-977DE2B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52B3-AC18-4E83-B1C0-0EB6CC8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E5855-42D2-48BE-8DDE-730A608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8E650-CD53-43FF-9D18-9509C72F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16932-6819-4ED6-BEB6-DF9F86A9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596B1-2DA6-4CFF-BEA7-E12F60CD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74FF3-961B-4704-91D0-BA588E6F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D4E57-AD82-4A6D-A179-918EADC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6BB05-78F2-49C9-A3C3-13698C2E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50487-F642-4D65-AFE0-6278337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CC4B8-E0F5-41AB-A7E2-05C32D0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AB4E0-CEB7-4970-88C9-582EE04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FC9-268A-49AF-A5B2-F89F0B7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C874-E94E-4922-892A-A9F8FE3F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C8FC8-D849-4BCA-AFAC-237F98C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626B4-2B93-4E36-826E-33C010B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1AD00-73E2-430F-9AC0-295CB70E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5327A-A517-400F-8DB5-16029317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6693B-F57D-445E-9B11-09BDF0CF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54592-88C8-4415-A2D3-48E087D0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72B92-2C05-4ECC-A352-D420A68A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6B9AA-B3FA-41F6-BBB9-51E09B2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8CD6B-20B3-44F2-B3B3-84802E16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A7BF8-BEB1-4D65-9929-C7729699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81D9-76C1-47F0-9987-DB18072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9714E-CADA-458F-AAFE-E5A3BE32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17262-636B-4110-8620-8B9CAD7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EF8BC-2DBD-4AEA-8D59-D138594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A9E0E-9693-4535-B27A-7F9B74A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9159B-42AB-4D52-967B-704D311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304B9-211C-46C5-BFCC-DF45A160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F7398-93CE-4DEF-B6FF-81C17288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F8C07-5A07-42B9-8247-4DA0B2D2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3E914-C037-4EC3-97D8-12786458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65824-E365-4A98-A257-68B21935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F00D-F631-46AE-945E-720A568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84F95-4C9B-45B0-AF66-7AFD586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0DA96-A71E-4BBD-8619-6CE8965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25518-236F-4B01-8E9F-0CC7E856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C8554-7488-4371-8469-57410376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B3E7A-5EE2-474F-9724-465C41A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99814-B3B0-4E9B-BFF6-42C109E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8DE5A-05C7-4FF2-88D7-9DC67BA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835B9-CC39-4759-8CF6-B4601495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154B7-4C4B-4A10-8765-1C858AA4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DB5D6-58F0-4B3D-A3F0-6563E0B7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0BB-465D-45C2-B164-C485E4D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184EF-B783-4D75-A2CC-5A0622F8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F0EA3-5F11-4B8F-808E-1F9B13C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1D463-921B-4F95-8112-CC64F31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37659-F6F2-4839-B8BF-1018F23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3CBC5-7BA6-4423-B678-C691F89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1A6AF8-B44D-40F0-89B9-2A0DEF6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2F940-AF6A-49EA-B399-C3F3C07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ED323-E820-448A-8175-46DEB1C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A15338-7C9C-4FF0-8D49-8CBD1F84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7637A-CBF8-4ECA-A74E-5F85732F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DE1-8976-4C77-94FA-482F7BE4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509C9-8B81-424B-B4E6-42DB5838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51694E-16B7-4DCC-909C-FB01CCE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08F56-6B9E-4663-AD26-55C7DAD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5E036-DDE1-4F72-93A1-8916FDCA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4C315-8B58-465A-8A83-D2052CEB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17547-FE76-4FC3-A7B4-916E2DE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E4A87-368E-4D9D-AE50-E86F1341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4BE80-A60D-4AB8-BBEF-53AD0E6A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11C965-D329-4CBF-A3CB-F640C6DF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23700-90BF-4C0B-B931-5A49DF4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B735-AB48-4461-8C6F-F5B9D9A4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5C515-B33B-494F-A0F1-A742084E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13468-FF0C-4478-BCFE-297AB13F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55AF9-5123-4C6F-BC13-652C72A6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0250-623A-4E06-B94D-1DBF4BF7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2929-222A-4BE4-94FA-17E2019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A33C-6B55-4937-BE70-DF0D3A4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E6EC-03BE-4898-8C51-01B3C404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2E4-7B17-4E4B-BD90-C697A1AF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0E0D-0B78-4992-BB38-664AC46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0B15-D39D-4B87-A86B-D809265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BE44-9FBE-4EC6-91BD-C9D3F78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A08D-8CD4-41E5-BDCD-FD8EB4F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F345-398F-485B-A0C4-4EC0BF67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359B-4CF8-4EF7-8EA6-59961C27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55A8-034B-438C-A4E4-154133CB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32F3-D1BD-4E3E-8908-E9FA3756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D2E41-0491-4891-80FA-5BBF393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AC26-3504-4B8A-8302-39B87211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CC5-9CB4-44D5-8BDB-EB1B8AFB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D8FE-C478-4F51-9A00-125D84B7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3B5E-F8A5-4985-9FC6-C015AC1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37ED-6560-4381-9463-28F6FD3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27AC-3F9E-491B-9CB4-6DFB1D4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7133-53E6-43B1-9B18-82CB042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7A9D-B6BB-47C2-B130-F63C12DE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11E2-B3AD-4F54-A527-2D42F2CA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BDB6-3510-478A-A96F-5EBF4058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C1B7-384A-4636-8566-91F119DC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2E9C-F274-4E01-A2E0-746E2716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1C8-CE2C-421F-B757-7FBB3AD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E914-6CD3-47F0-866F-EBE78B5E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6E1CF-B72A-48F7-A049-C9343E1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652B-3F2C-4A04-BB34-FB2743C8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9446-9C1F-41D1-8B18-C72FD36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79C8-25E6-4048-BFD8-082367B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CC48-57BA-462C-A9BB-4D9837A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CC60-E73A-4672-B2E8-7FD815E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0504-5080-422B-87B1-57812B7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8CC24-75BD-48AC-8FF4-0D066DA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AB7E-4628-4259-9B20-57A97157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3C3-4094-48F9-9EB7-46B860B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338E-C531-440D-B6CD-39A5ADED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5599-755B-48DD-B11E-D219870E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2687-29F2-4664-A4C5-70563E0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DD6E-3081-46BB-8299-A057103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6274D-0B50-46AF-819C-A808CCB4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6F72-FD0D-489C-B52E-DD90D4D3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7DF81-5EA7-465C-BFF4-702B1264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D532-65E4-4C48-9F1C-D22B94D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B0DF-A231-4C94-8D9C-C1908B26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A5B9-14A0-4E13-ABDC-BB1A40DA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E3B-CF9B-4719-83BB-0BBB617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85923-C1BC-4EEC-8202-BF72939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766B-ECD3-44D0-84C5-665F457E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4473-F1AC-42AC-877B-560A1D47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A04A-EF4C-4623-AE4F-CD379245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56BD-80B7-4F77-AFCA-0842DA2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85756-AE7A-4D9C-9024-256BBC0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961C-8614-4F18-957D-98C90563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E3FA0-0114-4895-B22B-A8E15EE7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AEBCD-0932-475A-93D8-9A613C5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12D14-EF8A-4C2D-815A-B417257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3C5-12C2-4720-B3E6-68D5B26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3853-0C6C-4836-B03B-D0FFCBF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352D-3134-4D35-A9C1-0EE7E5E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2500-F5E1-4E00-B77C-7612708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EF34-1ED2-4F8E-972A-E135F04D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37E8D-D3D8-4DF5-884B-71B6396D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10E9C-B5E6-43BE-B27E-81353301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D222-3248-4E7D-BA8A-0ADFEB0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AB321-0FF7-4E9D-97ED-C57C47C0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369D-6CED-4E30-96D8-35329B3E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E73FF-DC3F-41BB-AFD9-6F951B90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B27-6D89-4A4C-931F-2521632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8012-58C3-4072-9726-31C80113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3735-3361-442D-9BF3-B019F52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B243-AC49-4E4E-9EB0-4AC851E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8510-AE49-4FB6-AA3F-E52022C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3E5D-D3FC-4429-9E32-FC4F9C21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B4185-F2C3-4AB2-AD59-003461C7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ADFE-6C03-494A-A5BC-1F9A755F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19A9B-0F6E-4ED8-8101-CA9A29C6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27934-E2A5-4B69-AEBD-023B12AD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C17F0-DA78-4C9C-B753-939A2F0B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CAE8-61F3-44F0-B06C-7628B72086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6FEA-28D7-472A-802C-FBFEA2E65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A6C-69E2-461F-8C50-36323510E2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F74-9824-4980-BB79-BDC159282B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82ED-1F05-4BF9-A987-CFDD1819B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F75-8509-4A1D-BEC0-70523243A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2A06-25B4-40A5-9343-4DBDB54BD8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A12E-3968-4852-935D-1EEBC4BB5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855C-450E-4C85-9761-038085370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2094-8002-49FE-A63D-6EB561B9D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2AC-1150-4A63-9552-608270339F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A8E-0699-4220-A7E3-B8E581B81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CD1E-7B1B-4E05-9E6D-EB1F2D7A9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F94-060E-4DDF-B756-395A034D31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C077-39AB-4AC8-B518-236D9AC41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FC95-C990-48B1-ADC9-A8EC39E46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08AB-5372-46A5-BA71-C06133141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EFD4-2DDE-4ECB-98F1-7F5BF8BD7E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D2D4-1A52-4333-A081-ED6679663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77C6-962C-4DC0-8666-3D6F385A6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E40-7DDA-4045-BA48-DFC2BC45A8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E89-EF90-4E41-BAFC-E3BD102DD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AC93-8819-4F56-8184-A04A72978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179-5B70-4A41-9359-A5A23F521D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FF76-8061-4E71-A09B-1D4A461B9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1DDB-59A4-474C-8B1C-9504F8565C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B20C-8C46-4E04-BAF0-F87EEFE3F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C291-067C-407A-8095-4BF8DB233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0553-6D8C-48FD-9A9D-FF02CECD7A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D040-34F7-4C47-9FEF-7506441D5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DC48-1A10-41D4-B1B1-C44A02B79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D1A-FCAF-4782-9310-6B3A6F0CB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B54C-0A33-4DC5-AE19-600ACDBFB3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826-DF0D-4BC1-BFBC-F42056114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639-130F-4F2E-864E-1D79F6465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DA3F-2A94-4640-A4CF-7C8D65FB1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B9E-DE79-4553-9D41-7A59E4E95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E0C2-0DB8-4943-AB44-B92745C3F7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D2E1-9AC3-4CC5-9FD8-D33CFCDB6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12E3-9F8E-46C3-B617-33277834A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28640" y="2957400"/>
            <a:ext cx="58867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9633" descr=""/>
          <p:cNvPicPr/>
          <p:nvPr/>
        </p:nvPicPr>
        <p:blipFill>
          <a:blip r:embed="rId1"/>
          <a:stretch/>
        </p:blipFill>
        <p:spPr>
          <a:xfrm>
            <a:off x="290520" y="1033560"/>
            <a:ext cx="8562960" cy="47908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900000" y="2909880"/>
            <a:ext cx="475164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826920" y="3514680"/>
            <a:ext cx="4751640" cy="49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828720" y="4062240"/>
            <a:ext cx="475128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755640" y="4667400"/>
            <a:ext cx="4751280" cy="493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611280" y="5257800"/>
            <a:ext cx="756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68609" descr=""/>
          <p:cNvPicPr/>
          <p:nvPr/>
        </p:nvPicPr>
        <p:blipFill>
          <a:blip r:embed="rId1"/>
          <a:stretch/>
        </p:blipFill>
        <p:spPr>
          <a:xfrm>
            <a:off x="228600" y="727200"/>
            <a:ext cx="8686800" cy="6086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5113440" cy="9349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755640" y="5229360"/>
            <a:ext cx="5113440" cy="9349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684360" y="6222960"/>
            <a:ext cx="482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876240"/>
            <a:ext cx="8572320" cy="5505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2938320"/>
            <a:ext cx="576360" cy="865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740720" y="2938320"/>
            <a:ext cx="576360" cy="865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227640" y="4149720"/>
            <a:ext cx="792360" cy="865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812000" y="4149720"/>
            <a:ext cx="792360" cy="865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71920" y="5373720"/>
            <a:ext cx="892080" cy="865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84720" y="5343480"/>
            <a:ext cx="792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571680" y="1028880"/>
            <a:ext cx="8001000" cy="4800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5694480" y="12114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236000" y="1197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5219640" y="2363760"/>
            <a:ext cx="879480" cy="863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6948360" y="236376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7020000" y="3586320"/>
            <a:ext cx="792000" cy="86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1403280" y="4811760"/>
            <a:ext cx="792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299880" y="1785960"/>
            <a:ext cx="8544240" cy="3286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433680" y="2952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665520" y="3500280"/>
            <a:ext cx="19144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3909960" y="4076640"/>
            <a:ext cx="191448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081320" y="4581360"/>
            <a:ext cx="19148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628560" y="1828800"/>
            <a:ext cx="7886880" cy="3200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3995640" y="2867040"/>
            <a:ext cx="2737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4211640" y="3400560"/>
            <a:ext cx="2736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4427640" y="3948120"/>
            <a:ext cx="2736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4643280" y="4451400"/>
            <a:ext cx="273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447840" y="1971720"/>
            <a:ext cx="8248320" cy="2914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432108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43210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539640" y="4235400"/>
            <a:ext cx="432144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522760" y="3213000"/>
            <a:ext cx="329724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5435640" y="3789360"/>
            <a:ext cx="329724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435640" y="4307040"/>
            <a:ext cx="32972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5300" descr=""/>
          <p:cNvPicPr/>
          <p:nvPr/>
        </p:nvPicPr>
        <p:blipFill>
          <a:blip r:embed="rId1"/>
          <a:stretch/>
        </p:blipFill>
        <p:spPr>
          <a:xfrm>
            <a:off x="652320" y="1461960"/>
            <a:ext cx="7839360" cy="39340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755640" y="2478240"/>
            <a:ext cx="3311640" cy="865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3311640" cy="8654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395280" y="4508640"/>
            <a:ext cx="3311640" cy="865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264280" y="2622600"/>
            <a:ext cx="326844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5148360" y="3645000"/>
            <a:ext cx="326844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5076720" y="4667400"/>
            <a:ext cx="3268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4276" descr=""/>
          <p:cNvPicPr/>
          <p:nvPr/>
        </p:nvPicPr>
        <p:blipFill>
          <a:blip r:embed="rId1"/>
          <a:stretch/>
        </p:blipFill>
        <p:spPr>
          <a:xfrm>
            <a:off x="743040" y="1380960"/>
            <a:ext cx="7657920" cy="40960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611280" y="2503440"/>
            <a:ext cx="3384360" cy="854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539640" y="3614760"/>
            <a:ext cx="3384720" cy="85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68360" y="4638600"/>
            <a:ext cx="3384360" cy="854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4572000" y="266544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4500720" y="373068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4500720" y="4797360"/>
            <a:ext cx="417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1519200" y="1857240"/>
            <a:ext cx="6105600" cy="3143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640908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1619280" y="306864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1619280" y="364500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1476360" y="4292640"/>
            <a:ext cx="640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8:3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